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26F-CDD0-471A-882A-13C294E6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C9F-5A29-4E39-853B-ECE3A5FC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820D0-2A7B-42A9-A0FE-AF47D65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D8CA1-9E17-4607-9868-13BF2FD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44B19-7D29-4298-A7CF-43C8FB1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7F3A8-F3BE-43E3-841C-6609557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CFA27-F9E0-4A06-9B88-580D6B7B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EFE9A-1DB9-4378-BCE6-95652F6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DD1B0-6D87-47F1-BA05-15336FA0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FE022-906F-447B-93BA-CDFDC173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603C0-6C38-4CFE-9491-04095971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E9D8E-5598-4834-91DC-00E806CA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EF0-89C9-47F5-9006-9535745A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961A3-E89E-43F7-BF06-D364272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D8DC1-5E29-4D91-89EF-4B0A71B7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83B36-F332-4EC7-8A6D-93C0ADD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A1DC6-E4BB-46F8-AE14-077D429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E3061-3C1C-4E6A-899B-A2A68B4D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2E51D-3942-4EC2-A785-27A5527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B702B-DB07-4349-A567-9236C3E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6EC37-F288-4472-9CFA-171BA6D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14E4B-80B7-4B6D-A003-DA0908B9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520F4-7DFD-413A-894A-2AECA43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01B-2B12-41A9-AFB4-9251490A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87AF2-A9CB-4566-9CB7-AC91BFD5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296A-E11A-437A-9077-30834A0A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533F3-D983-4A45-83A9-F050DEE5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77E39-9BBF-4BE0-8991-F60E0515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70168-193C-46C4-86C3-58307135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1AC7-6A8B-45E0-BEF5-9FA4E01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F3340-8A4F-4434-855C-78592DF2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7288A-2638-46A7-9A3D-8D1C7B1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35ED-697B-4F96-8654-C05D429F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0898D-56D5-4DF0-9588-741C3D16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5E0-2D9A-4603-9466-43EB4B1C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0F6B-DA46-4929-9649-EC6DA92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9377D-8677-42F3-BFC7-244CED5E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867EE-B681-488A-B372-36F95DE6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42D75-3AD7-4B26-9771-2C2038AA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2502-8B77-4C4C-953A-5E7A3167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BE022-BFC1-48E4-94DE-D70EE529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EC617-4231-4043-A736-88B067A3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D92DC-826E-4DEA-B926-BAEAC79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4FAB9-C876-46DF-8521-C20E62F9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5E98F-FED2-4772-B4FC-9735136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BF5-3F78-4C47-9F06-D9279F4F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0FA2B-3033-4ACF-B7F2-CEB8610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E76BA-3FAF-4F3C-ABA7-7F08321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2DF9C-D7F6-489E-9E6C-47115586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28D2-F06F-47CC-B760-3A25032B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B6C92-7470-4E6F-82CF-8DE900E2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B33C0-815A-4EF6-A932-ECE2ABE8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1D2CB-BDC3-4BF2-967E-6DE44EFE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94189-8D47-406C-A9FE-10DF9CF1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D6E7D-2A4F-49A4-891B-C810C1D1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BA1DA-4635-4292-8D02-76E03A18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F65A-472E-49E7-A823-87F2D68A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27E3D-B097-4219-8E81-04A99C60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AF104-812F-4C89-9CE5-12174052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51AE3-DDC6-4B0C-98C1-64D9E23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7AF36-4C1E-4533-B2BB-E29099E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61423-51F2-451A-B98C-716EC142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A8622-C78E-4371-89F4-6498CC14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1C725-EB3F-43BB-ADD0-B23FA0FB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BDD30-63B5-4258-895C-E4F998F5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057A6-6562-4C2E-B017-7DEF503E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514DF-4C57-4B7A-B13C-75CE9B1C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F62F-3D3B-43BF-BB1A-A666CB9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645CB-4180-46F8-B45C-21BF545E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27925-A879-4E31-9A21-6AFA022A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A6B62-3ECE-44A5-A3D8-DA457C42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2D946-F781-4D5B-9F89-378FFB61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FC454-4EC5-4044-A43D-5AAD4A79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20990-8D25-42E5-801B-B83F7F60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BFD5E-B8C1-43BE-A8BE-772F4771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49764-AB55-470A-9D12-E4FEEAF4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293E0-68D1-4A7D-A8CF-9170FE1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78CF7-D476-4C86-8353-A55B5D70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0857-9FEB-47B8-8A9B-F3E3D156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7905A-83A5-45DE-80D9-672830D5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3B2EA-C993-4635-9E73-D10BB54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20072-488E-4151-A8B5-F7EF77EF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7E1AB-7B2D-4FD8-973F-59854A9E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9E94D-9F3B-4CBF-979E-131EFF8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48C79-4156-41DF-ADEE-B9A28FA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F7020-9CE4-493C-A0E5-92D4E05E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F840A-9692-455B-8EA4-C649630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0CD12-D027-4A40-9CFD-C451C459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13BDB-D4DB-488B-B173-9C25554F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F5DC-D830-412B-85AC-686909D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10D22-5CE6-48B5-93DB-72A1F498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0A8D1-9611-4F6A-9C8F-6BC5C358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9FCD6-7E63-4501-8F60-EDDDB0E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A6867-78C5-405A-8F9A-21A83CF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5F400-FAEA-482B-BA6A-D54278A1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624FC-B5FF-4034-B82F-3A373F83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67CB3-3518-458F-8992-0AB3174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094FF-7FE1-47A7-A69E-3546DD9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D97D4-562F-46B8-A0A6-2586DE0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6FFDD-9883-4B64-A35F-36441C0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7496-3378-4E0A-9B06-7E323A00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F737B-6DA3-4ADD-AA22-1B6273EF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D2E85-7A9F-4277-8994-519F3C5D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5E8CD-C8B1-4393-B2C9-0696DB05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A5A76-8672-43B2-804F-4C2692BA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5FCA6-D331-4142-957A-F7F5DF4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21E25-FB75-4EDD-8145-EA53075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2644C-47B6-4E89-8B22-F6362D1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24BA0-B039-4F95-A548-76D3C36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A320E-BBEB-4565-80B3-45D3A65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C88ED-06FC-4FD8-9EC0-D4D475F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2AF-79EC-46D5-84FB-F1B51FA0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59A0-7236-4E9D-964F-8AEBBCB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D7ABC-0967-4636-ACCC-F71ABE8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D2EF0-9F94-47B2-B569-7944CCD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C0602-5B79-468D-B26F-C53DA0C7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28119-8231-4D6C-A5AF-8F3F247C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5D0B5-607A-48D2-9DF7-47DF85AB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C2D0E-ED99-46D8-9055-08820AE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788FB-06C3-400C-A733-973F1C6F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69E7A-29E2-4462-AEB2-F536D0F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86C27-0B78-4CAC-940D-11D6F9D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E59E8-1A56-4519-AF84-8AE8D65C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B2BD-204B-44C9-9A9F-552EADA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19A12-DB82-482F-AE25-26B5154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8DCE5-CFA1-485F-8F23-9816161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C2A3A-D2AF-4DA8-AC07-F366BDF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E7676-4DD6-4EAD-A546-F6F3301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808D9-B76A-4D91-AAE4-899FBD46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BBD4B-4887-488C-9169-314D5244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18CC9-4261-4CE2-BC0F-F53C9367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44F9B-3F3C-4AAE-8C84-F634C18E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FE880-58AA-4BE2-8118-678A5E3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1DBBD-3437-4EB9-8D5B-C7374658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E3BE-1114-463D-8975-EBB1970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3B5B6-88A4-496F-AF52-121BFCF7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CCB87-CF7F-4C65-A4C5-32FF459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A051C-19CC-4175-84D8-D32D9F1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70DC8-D03B-41B7-87F2-1F05E090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49183-F420-4DF8-926B-FC694F8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2C84B-8476-43AA-B631-46E5F67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832C0-E9AA-4737-AD76-2126AD43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47B9A-01D1-4CDA-B68F-3DB19B4E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DEC31-77CA-4E2C-8EBE-77108AB2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A1F8A-46C3-408F-A176-DF79E687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C8D-4C9C-43BE-9B97-A65C3F47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C3C80-D250-4CF4-9469-BE8D6AF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2ABB2-6222-48AF-BF68-6114A4F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F084F-04DF-4519-A839-D888E0C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E0C44-E5FB-4637-B92E-45A18E1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CEDCE-DF96-4702-B9DC-591373E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2813A-73A0-4757-8077-6C62E25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0E8C6-FF9C-43B5-AED1-B62EB0B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48346-3BD3-46AD-9311-0EB21B4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1EBFF-03EE-4B6E-95B8-3FC784D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65DB4-BA89-4C9A-9CCF-87ECB483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0693-BCDA-48C5-A3DE-8C057271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AED4B-C78C-4205-822B-96EDBFA0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56AA6-C281-4237-874C-E376D9F7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BE6F5D-0966-4FA1-99DE-6BB90356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94BD96-B0C6-4456-AA6A-201E98F3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C770E-D736-434B-AE5A-FEF0D5B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576B45-0466-4D9B-A5CE-5D388AD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F58E5-2C3D-43AD-8EED-EC0B1288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7613B-F6CE-4D32-9C46-D10311F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94503-0C7A-41DF-86D7-1B634C6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4AAEE-93F4-4D0B-BCC2-52AC182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B286-3D8E-4025-9696-76E8F2DE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8040B-0B51-41D5-A54F-78C5FA2C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63D51-D65A-4947-98D0-46F0608D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D6FC8-57F2-4EDE-8A28-EB4969A4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64E850-6350-49CC-8B12-DD3DCCA6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7565CA-98EB-45AA-8B87-27457FD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3F3107-401B-45FF-8F05-97DAE6F3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F9A6FB-0F8E-4824-9E29-5E9EF2D6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1ADE8F-CF0B-496F-8CBD-9FDE481D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1ABE38-DB8B-43E3-9E64-F0082CE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400F7C-52DB-4FCD-AE49-660E8D6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81E9-7FE1-4FC4-A80A-56FB5BB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E21C87-F3F1-4ED5-B34C-58629B9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AC89BF-EFA8-4FE7-84A0-9A6757F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EAE330-097A-47CC-A975-C9C76774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B38FB-C68F-4712-853A-32BF7B94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30CF42-38A5-481B-ADB0-35A3D841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CE7BA5-356C-48F5-AE74-4CCF7D2A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8C4CF-E1B4-4C42-8BE7-4F6186B9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B92750-079F-4952-B450-F0DD810A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6E156A-8AB4-4F7F-8344-840CA88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4F4832-9586-4D3C-BAB9-60C53B3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6802-3C2F-4C38-871C-B08030C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607DDC-86E8-4461-BE4E-E92BB24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63766-08B0-4834-BA94-5E9D5390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24046-B24C-4E6E-8749-3E872C93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AD427C-5638-400E-904C-9C7F212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FA2B4-51EA-4046-855B-08FFF0F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61D86-E111-4B9C-80E8-31446A8B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DA7003-FAC1-44FE-A9E4-9DF1797F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BF28F-0991-43D2-A341-F19F053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C08D-D28B-40AB-9CD8-2FBEF05D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416-E3C3-425B-A9F4-8319177D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FD9F-93A2-4F97-A7C4-D49AFA4C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4AAB-51FD-4AB4-A64A-C1FA216A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A5E0-21C8-483B-BEB2-DD57072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D08D-1C21-4B84-B748-03D4355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5B9C-F1D5-4865-8961-B0873B9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A5A3-95FF-4925-8D56-8F3D390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C945-E513-4526-97E7-B6DE848E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B388-30BA-4176-B325-81D0FC98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3059-A1DA-433B-9249-BED6371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CA0E-AC8C-499B-A2E9-65DD0DF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1FE-E905-4D78-9947-99BC2FFD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64E9-7772-46F6-8AFA-AF270AF9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13F4-B4CF-4162-A9B3-861B1566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90E6-2745-413A-95A7-D188E971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0F65-68B6-4EB4-8D2C-D03ED61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4F66-D04A-4258-AB20-9901160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FB5E-CA63-4479-B5B3-BA22CD1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1673-19EA-49A0-9003-E6EDD0BA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CFC3-ACE3-4F8A-AC77-61E2425C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F407-8596-4350-A6D6-8BE0A9F7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F0179-CBBC-4831-8C90-9E429226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610-3269-4E10-9835-C1AD196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8B25-59A1-4C8A-A3F7-544C2C26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B083-132E-4966-80E9-371E8ED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E7A5-8829-4F1D-83BF-7622B227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A63B-8DFF-4191-A86D-C661DEC2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EE40-989A-46E0-BDD6-7E3A4DE7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75D0-A695-4E71-8B36-9F9D17A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4BC8-5D36-4AE1-91A9-B98D07E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09D5-AD87-41DA-A4F1-0F02747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D65D0-BB82-4859-A1D2-5A3572B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B89F-EF19-487F-9C79-E8A38D34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7CB-17F3-4E21-9FF9-25B820F8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3143-8ADA-4013-8754-B1B57DB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DE6D-A375-4C14-B8EF-BB916FB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DAD9-8C9F-496E-9DD5-4078064A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4066-5274-4054-A7DB-24EC0131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D1C3-39D5-4DD5-9A3B-5E226FFD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7163-F1FF-42FF-8E36-641A148D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84DD-B3C6-40B9-80BD-8D836F76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38E9-A776-4339-8B59-9BB3455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5752A-08D1-4FB2-9611-84A7D99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216D-7271-40B7-B6F5-0ABEF7C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BE5-EDEF-48E0-978D-157E0BA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683C-65D5-4D89-80F4-9CC0F098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7179-AC39-4D02-B41C-8B03DB33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72BA8-2F0A-4866-AF15-9C552CF1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5ABC-6879-4E76-92A7-93A0E404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CF8BC-B88A-4A8B-997A-AC229461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E2B0E-B95D-4BE6-A756-CCADD98F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9982-BB49-48FC-8A65-BED7226B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0E3A7-D260-4B82-A6F1-70313860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891FC-1995-480E-8461-E44C3F25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48605-D8AD-4D83-869B-5D2A813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4C2-A505-4E64-8967-7EA75CA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A2BB3-4CA5-44AC-99F2-A8B76714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5C429-85AA-4F32-B88E-9ABC385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45AEB-9D83-4CF1-9475-69662299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17BDC-A0EA-448F-87F4-C9CA053E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500B-EC90-4AA5-98F2-82E9481A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1F5A-668F-4C9E-8620-7090A662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EFCE7-C380-4B9F-8DAE-E6B40425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EDC3E-BFD6-4C1D-81DF-1EE0192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38263-7937-4811-92D1-F36CBB1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4A58-1C2B-4566-963E-AB43810F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386-30BF-40CA-A081-0A80A74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7D6B-3936-4C76-9F2C-8E2DDA43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40C6-7CB5-40E8-96DB-C0FBD606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B9275-46F1-4E86-BBEC-F632C338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E69C-76FC-4F7C-BDC0-5F0A1E9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CDAAC-F21E-4400-A3C0-C20910C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08BED-4039-40B1-8BCB-F31F4C5E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C2C0-F19C-42DC-AABF-A9179D81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2BD12-58AE-42EA-9526-B2D9F66B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212A1-00AB-481B-AB1C-230C299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6BB27-94E0-4C73-A187-62F4911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65F9-CE42-4713-B75F-526A5764A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759-3928-48A0-9D03-6B6707B73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B220-36F4-47F1-90E6-F4B8DA38F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003F-108C-459C-B630-6884D35C3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CBE8-79D2-4EEA-9439-8F76CEE9BF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8F0-650F-4B99-B964-948306340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8AF-DEC5-46B0-BE35-ADDE5FBA8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2C5-25F9-4DF3-9D7A-FAB5AA6A6C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86CC-7205-42A3-B185-3556ECC19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300-6157-4E72-888F-7CA10151E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ED19-15BF-47D7-8674-8D7AD2FD8B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2EDE-3737-4739-988C-9A0D1C8F3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806-05E1-4E11-9C2D-83C3CB4CE7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662C-DD45-44BB-A9E0-1A70BF721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15D9-C23D-466F-BFBD-46131DD1A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0C7C-404F-4EAF-86D6-B0833D74B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9F8-6494-41DE-95A1-9701167A0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2AAF-A532-439C-81E0-A86E3014ED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BEED-3346-45C6-8C5A-608A1D755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4228-AC8F-4D3A-819D-7C4D67ACD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2A8-E5F0-4621-9E4F-D44C03576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C349-84E6-4E5D-B470-57A427B4D7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F33-4B25-4665-9089-625D2FEBBD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3135-40BA-48E4-899B-8B494F4BA5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0F9-C801-46CF-8128-3EEA8E8D4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7FB-9F66-4082-9962-6B62AD983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6B3-6206-46D1-9BC8-3A41CFBC8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74D-9729-430A-9308-D21EBB11D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1C5-FE47-4483-9C5C-0AB6B11EC5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1AF8-E733-4F40-A623-3DBAC60F5C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FB5-A335-4C1C-AB3A-2B1A37975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2D49-3A87-4B3C-A581-6C93C9189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227D-EC36-46E7-AD7B-3A301FF432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8FB8-1472-49D7-B18A-D7C671DBEF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756-DF58-42BC-B0EC-A67E8484FB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E283-AA99-4CD7-85C7-BC8468955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485-EA51-49F0-AD73-180D5A720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F0E0-1521-43C8-BEA3-7E19036C7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554C-7648-419D-BA7E-AD331E69C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6E5A-24BE-414A-B3A6-175F0328D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F1D1-6AEB-4406-9EC2-8D3584D9C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BF8C-F20B-42C9-8275-51123B3E64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9840" y="3079800"/>
            <a:ext cx="90043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90440" y="1652760"/>
            <a:ext cx="87631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776160" y="1676520"/>
            <a:ext cx="7591680" cy="3504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3419640" y="4149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5580000" y="4581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257040" y="706320"/>
            <a:ext cx="8629920" cy="60962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900000" y="4192560"/>
            <a:ext cx="7993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12193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1309680" y="1733400"/>
            <a:ext cx="6524640" cy="33912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258920" y="1757520"/>
            <a:ext cx="56181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56181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56181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561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1332000" y="439416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09440" y="896760"/>
            <a:ext cx="8925120" cy="562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826920" y="35449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648180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755640" y="5950080"/>
            <a:ext cx="6481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498600" y="44280"/>
            <a:ext cx="8385120" cy="6767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1187280" y="48117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1116000" y="5516640"/>
            <a:ext cx="75596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09520" y="285840"/>
            <a:ext cx="8724960" cy="6286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70188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826920" y="610704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2:0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